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E43C-44B5-42EE-89D0-7C695EF0B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un.ca/biology/scarr/Arginine_nutritional_mutant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lickr.com/photos/agathman/5469134899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nas.org/site/misc/ingram.s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blackpast.org/?q=aah/sickle-cell-anemia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gassama.myweb.uga.edu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first 7 amino acids in the hemoglobin ß-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is normal (with glutamic acid), Right is sickle-cell anemia (with va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library.thinkquest.org/17109/diseases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dnaftb.org/13/bio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gfmer.ch/genetic_diseases_v2/gendis_detail_list.php?cat3=1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nature.com/scitable/topicpage/cell-metabolism-1402618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 book called Inborn Errors of Metaboism in 19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d alkaptonuria, cystinuria, pentosuria, albi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iki.cstl.semo.edu/agathman/Proteins%20and%20genes.ashx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andwalk.blogspot.com/2008/05/nobel-laureates-george-beadle-and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ublications.nigms.nih.gov/thenewgenetics/livinglab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nutrient medium contained inorganic salts, sugar, one of the B 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427-BB58-45F5-A736-B12C50AC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646-F8B6-4003-BBE4-1734F254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4D5-2E58-4B4E-BEEC-62556F1F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900-12AF-4B00-AA25-718F283A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726-243F-4E78-95EF-59463023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2FF-7BEF-4EC5-A8C6-3E8A85CE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5F3-9A2D-49E7-A3A6-5D6B3550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1B1-ECDB-422A-91A2-AF55E0EF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7C3-6F69-40E5-B13B-1BB7FBC2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280-9A40-4E5B-A0A2-79014EF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CD9-C62B-4958-8154-B64F278E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116-22AC-47F9-9B93-1A4C58FC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2262-80C7-4FFB-A04F-457635F1F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chapter_quiz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naftb.org/16/animation.html" TargetMode="External"/><Relationship Id="rId2" Type="http://schemas.openxmlformats.org/officeDocument/2006/relationships/hyperlink" Target="http://wps.prenhall.com/wps/media/objects/1552/1589869/web_tut/21_04/21_04_01a.sw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 strains were unable to grow on minimal nutrie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mutant strains, addi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i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minimal nutrient medium resulted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pathway for synthesis of arginine was determined through expe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738360"/>
            <a:ext cx="77724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inine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Gene-One Enz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dle &amp; Tatum’s work resulted in the one gene-one enzyme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ypothesis is more accurately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gene-one 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non In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-American Biology professor (1924-2006) who studied sickle-cell 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ditary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blood cells contain abnormal hemoglobin, causing crescent s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difficulty with blood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71960" y="198108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d the hemoglobin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e difference between hemoglobin of normal RBCs and sickle cell anemia RB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globin ß-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48080" y="1981080"/>
            <a:ext cx="40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sel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quiz includes questions on history of DNA research as well as repli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chapter_quiz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experiments (excellent slideshow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16/anim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dle &amp; Tatum (narrated animation…a bit d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ps.prenhall.com/wps/media/objects/1552/1589869/web_tut/21_04/21_04_01a.s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bald Garrod (1857-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hysician who studied metabolic defects in newbo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d family history of certain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22880" y="1981080"/>
            <a:ext cx="266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kaptonu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ditary disease that caused urine to turn black due to accumulation of alkapton (homogentis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624040"/>
            <a:ext cx="38098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s who were fed extra phenylalanine (an amino acid) had increased blackness in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…alkaptonuria must be caused by defectiv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the defective enzyme must be caused by an error in hereditary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rod’s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ive alkapton-metabolizing enzyme part of a metabolic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orn error of metabolism” (19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192560"/>
            <a:ext cx="77724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ylalanine 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genetic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ed paper  (1941) with findings on relationship betwe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zy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red bread moul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365200"/>
            <a:ext cx="38098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eurospora cr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73360" y="1981080"/>
            <a:ext cx="379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dle &amp; T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ble to grow on minimal nutrient medium (i.e. it was able to synthesize all needed amino acids and vitam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nt”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. cras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created through exposure to X-rays or UV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10:59Z</dcterms:created>
  <dc:creator>rubina khan</dc:creator>
  <dc:description/>
  <dc:language>en-US</dc:language>
  <cp:lastModifiedBy>rubina khan</cp:lastModifiedBy>
  <dcterms:modified xsi:type="dcterms:W3CDTF">2012-11-15T14:58:02Z</dcterms:modified>
  <cp:revision>93</cp:revision>
  <dc:subject/>
  <dc:title>Molecular Genetics</dc:title>
</cp:coreProperties>
</file>